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1E5-978D-40C8-9939-77017924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B4D-D0AB-40FA-96B8-162FEE0A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BD5-9FB1-42B8-AEE9-B35332B2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CEA-E096-4BCD-98D9-03668602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B5F-217E-4E97-980D-1516C0AA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43E-1A7B-47F0-9F7E-BD7F8806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F2A-A6C9-4B9F-A140-FED72C05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6D0-C321-40B5-82EE-6D7B995A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59E-BB51-4923-A376-D8516A76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731-D427-47B4-8EAC-3B5AEDF3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80E-7892-49D6-B2F1-6EF0822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562-7E6B-4FE9-9922-559F373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831-347F-4865-9B54-CFE109348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aps.fsu.edu/~hwinter/oilspill/" TargetMode="External"/><Relationship Id="rId2" Type="http://schemas.openxmlformats.org/officeDocument/2006/relationships/hyperlink" Target="http://www.coaps.fsu.edu/~hwinter/oilspill/" TargetMode="External"/><Relationship Id="rId3" Type="http://schemas.openxmlformats.org/officeDocument/2006/relationships/hyperlink" Target="http://www.coaps.fsu.edu/~hwinter/oilspill/" TargetMode="External"/><Relationship Id="rId4" Type="http://schemas.openxmlformats.org/officeDocument/2006/relationships/hyperlink" Target="http://www.coaps.fsu.edu/~hwinter/oilspill/" TargetMode="External"/><Relationship Id="rId5" Type="http://schemas.openxmlformats.org/officeDocument/2006/relationships/hyperlink" Target="http://www.coaps.fsu.edu/~hwinter/oilspill/" TargetMode="External"/><Relationship Id="rId6" Type="http://schemas.openxmlformats.org/officeDocument/2006/relationships/hyperlink" Target="http://www.coaps.fsu.edu/~hwinter/oilspill/" TargetMode="External"/><Relationship Id="rId7" Type="http://schemas.openxmlformats.org/officeDocument/2006/relationships/hyperlink" Target="http://www.coaps.fsu.edu/~hwinter/oilspill/" TargetMode="External"/><Relationship Id="rId8" Type="http://schemas.openxmlformats.org/officeDocument/2006/relationships/hyperlink" Target="http://www.coaps.fsu.edu/~hwinter/oilspill/" TargetMode="External"/><Relationship Id="rId9" Type="http://schemas.openxmlformats.org/officeDocument/2006/relationships/hyperlink" Target="http://www.coaps.fsu.edu/~hwinter/oilspill/" TargetMode="External"/><Relationship Id="rId10" Type="http://schemas.openxmlformats.org/officeDocument/2006/relationships/hyperlink" Target="http://www.coaps.fsu.edu/~hwinter/oilspill/" TargetMode="External"/><Relationship Id="rId11" Type="http://schemas.openxmlformats.org/officeDocument/2006/relationships/hyperlink" Target="http://www.coaps.fsu.edu/~hwinter/oilspill/" TargetMode="External"/><Relationship Id="rId12" Type="http://schemas.openxmlformats.org/officeDocument/2006/relationships/hyperlink" Target="http://deepwaterhorizon.fsu.edu/projections/hurricanes.php" TargetMode="External"/><Relationship Id="rId13" Type="http://schemas.openxmlformats.org/officeDocument/2006/relationships/hyperlink" Target="http://deepwaterhorizon.fsu.edu/projections/hurricanes.php" TargetMode="External"/><Relationship Id="rId14" Type="http://schemas.openxmlformats.org/officeDocument/2006/relationships/hyperlink" Target="http://deepwaterhorizon.fsu.edu/projections/hurricanes.php" TargetMode="External"/><Relationship Id="rId15" Type="http://schemas.openxmlformats.org/officeDocument/2006/relationships/hyperlink" Target="http://deepwaterhorizon.fsu.edu/projections/hurricanes.php" TargetMode="External"/><Relationship Id="rId16" Type="http://schemas.openxmlformats.org/officeDocument/2006/relationships/hyperlink" Target="http://deepwaterhorizon.fsu.edu/projections/hurricanes.php" TargetMode="External"/><Relationship Id="rId17" Type="http://schemas.openxmlformats.org/officeDocument/2006/relationships/hyperlink" Target="http://deepwaterhorizon.fsu.edu/projections/hurricanes.php" TargetMode="External"/><Relationship Id="rId18" Type="http://schemas.openxmlformats.org/officeDocument/2006/relationships/hyperlink" Target="http://deepwaterhorizon.fsu.edu/projections/hurricanes.php" TargetMode="External"/><Relationship Id="rId19" Type="http://schemas.openxmlformats.org/officeDocument/2006/relationships/hyperlink" Target="http://deepwaterhorizon.fsu.edu/projections/hurricanes.php" TargetMode="External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tion of Katrina scenario sfc oil movement- Mark Pow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aps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s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winter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oilspill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deepwaterhorizon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fs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edu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/projections/hurricanes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php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2:29:47Z</dcterms:created>
  <dc:creator>gopal</dc:creator>
  <dc:description/>
  <dc:language>en-US</dc:language>
  <cp:lastModifiedBy>gopal</cp:lastModifiedBy>
  <dcterms:modified xsi:type="dcterms:W3CDTF">2010-06-17T02:36:02Z</dcterms:modified>
  <cp:revision>2</cp:revision>
  <dc:subject/>
  <dc:title>Animation of Katrina scenario sfc oil movement</dc:title>
</cp:coreProperties>
</file>